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7.png" ContentType="image/png"/>
  <Override PartName="/ppt/media/image5.pct" ContentType="image/x-pict"/>
  <Override PartName="/ppt/media/image8.png" ContentType="image/png"/>
  <Override PartName="/ppt/media/image6.pct" ContentType="image/x-pict"/>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E7BF-2B2A-4D51-AE59-572D20C3E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E6CE-E59B-47A2-923D-BBC2C6FA8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asks have to be selected to make these common questions possible.</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2EEA-C35B-463E-BB77-2BFC22135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s are not labelled as A and B this time, but there are clearly three choices, all dealing with measurement conversions.</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1BE6-472B-4559-8E41-EA43F9E50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oice would suit students who are not ready for percents greater than 100, without making them feel they “don’t be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free to make individual suggestions to students about which they might do, but shouldn’t make a habit of that– trust kids to make the right decisions; they usuall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is NOT to do both.</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EDB5-AC28-4F91-867E-75A7405FE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how these questions are different (friendlier numbers in choice 2)</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D658-3AFE-45E2-BC80-A35356038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 PJ participants that this is intended for high school students. Help them recall that inversely proportional means that as one variable doubles, the other halves. You might have to remind participants to check their definitions for proportional  (an example of proportional functions are y = 2x +6   and y = 4x + 12; an example of inversely proportional functions are y = 2x and y = 1/x.</a:t>
            </a: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DB51-E3EB-4E7F-8873-DB3EC114E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orry that parallel tasks are subverting the curriculum, but they are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we are just giving more time to a student who is not ready to reach the curriculum goal; we are not forgetting about th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building success to make that goal more att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ly, there are situations where parallel tasks do not even change the curriculum goal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 see the potential for a parallel task on a test if it was focused on communication or thinking or even application for a broadly based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example, we are assessing communication or possibly thinking, the content need not be that prescriptive.</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7B65-CA70-47CB-86A9-FE3849F4B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in small groups or with a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s are provided to make the work easier. Eventually they would create their own tasks by beginning with a planned task and either simplifying details for struggling students or making the details more complex for advanced students to create the parallel task. A sheet of tips for creating parallel questions is also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or I teachers can choose which set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eader icon- at this point . As participants work, have leaders circulate and act as facilitators in conver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eaders return together a bit early to consider the following:  How could getting a staff to work together more collegially help with developing parallel tasks and common questions? Is this a possible solution for split grade problems teachers have? How would you help a teacher deal with a parent who complained a test wasn’t fair because of parallel tasks? What data could be gathered to help teachers see the value of the use of parallel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2F2B-223B-44D8-905A-38A7CD355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the discussions participants had.</a:t>
            </a: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5A8B-4F2A-4E34-BC8D-E38DF26A2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onsolidation piece for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responses after pairs or small groups have talked.</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8647-596B-4E75-9A2D-671FDE39B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is intended to be a mathematically useful problem, but also to begin the discussion of anticipating student difficulties and, as a result, considering a parallel more appropriate task for some students.</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CD16-0F92-4DED-82E4-0637C709B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participants to share ideas in small groups about the obstacles. They might include the fact that the part is given rather than the whole or they might relate to the numbers selected.</a:t>
            </a: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B24B-D9A8-49C3-905C-DE0C3442A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explain that parallel tasks are two tasks which are mathematically equivalent in terms of the concept required, but perhaps not in terms of skill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nded that they be offered as a choice for students so that all students can succeed relatively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ust be so similar that many of the same questions can be asked and answered by students no matter which task they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designed to build student confidence and success.</a:t>
            </a: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6611-94B5-45B3-8979-85A408309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examples of parallel tasks follow. Many come from Small’s Good Questions: A Great Way to Differentiate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questions listed are the questions mentioned before that should be applicable to both tasks, so that the debrief is full class and not separate for the two options.. These are what teachers generally find tricky to cre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ffolding questions are “in the pocket” questions teachers might have ready for kids who seem stuck.</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D397-8912-4CC3-8CD6-EEE3980A6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participants see why these questions work with both options.</a:t>
            </a: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FCEB-FB67-4D79-B3F7-F89D5C9AB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scaffolding questions might need slight adjustment for the two different options.</a:t>
            </a: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FEBD-1572-458B-A6F6-30D6D1857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ask participants to decide which they feel is more challenging and why. But reinforce that this should not be disclosed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 should someone be looked down on for choosing the simpler choice; perhaps it is really more appropriate for them.</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A1D8-5CCB-4101-9518-669D61EAD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A8B51-281C-4500-9649-D27808ACA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A9965-AF01-45EE-B5EE-414AA5C82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8FB8E-26D2-4E53-9F15-B1A8AB129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0DACD-078D-474B-9EB3-0F13ACB66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9A2C7-3D15-4DA1-92A1-FD4A8679F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E11C9-2745-46A1-B3F2-94D363150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D03FB-AAAF-42D3-B0CE-C0506A601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203BD-83AA-4675-A6C8-CC2266C49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0EBDD-BF4E-4BCC-917E-212149BE5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4DAAD-B694-418A-9A5F-DADFBF195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2EC22-1D26-4C0B-9E20-EAF80FA51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26D65-9432-4FAD-B668-D1906F5A0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512C-E534-4B9B-BC13-79B61F41723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oleObject" Target="../embeddings/oleObject2.bin"/><Relationship Id="rId4" Type="http://schemas.openxmlformats.org/officeDocument/2006/relationships/image" Target="../media/image6.pct"/><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2</a:t>
            </a:r>
            <a:endParaRPr b="0" lang="en-US" sz="6000" spc="-1" strike="noStrike">
              <a:solidFill>
                <a:srgbClr val="0d469b"/>
              </a:solidFill>
              <a:latin typeface="Arial"/>
            </a:endParaRPr>
          </a:p>
        </p:txBody>
      </p:sp>
      <p:sp>
        <p:nvSpPr>
          <p:cNvPr id="7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one of your fractions be represented 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one of your fractions 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r pictures prove your fractions are equivalent? How would you change them so they 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your f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2" name=""/>
          <p:cNvGraphicFramePr/>
          <p:nvPr/>
        </p:nvGraphicFramePr>
        <p:xfrm>
          <a:off x="1523880" y="2819520"/>
          <a:ext cx="274680" cy="838080"/>
        </p:xfrm>
        <a:graphic>
          <a:graphicData uri="http://schemas.openxmlformats.org/presentationml/2006/ole">
            <p:oleObj r:id="rId1" spid="">
              <p:embed/>
              <p:pic>
                <p:nvPicPr>
                  <p:cNvPr id="73" name="" descr=""/>
                  <p:cNvPicPr/>
                  <p:nvPr/>
                </p:nvPicPr>
                <p:blipFill>
                  <a:blip r:embed="rId2"/>
                  <a:stretch/>
                </p:blipFill>
                <p:spPr>
                  <a:xfrm>
                    <a:off x="1523880" y="2819520"/>
                    <a:ext cx="274680" cy="838080"/>
                  </a:xfrm>
                  <a:prstGeom prst="rect">
                    <a:avLst/>
                  </a:prstGeom>
                  <a:ln w="0">
                    <a:noFill/>
                  </a:ln>
                </p:spPr>
              </p:pic>
            </p:oleObj>
          </a:graphicData>
        </a:graphic>
      </p:graphicFrame>
      <p:graphicFrame>
        <p:nvGraphicFramePr>
          <p:cNvPr id="74" name=""/>
          <p:cNvGraphicFramePr/>
          <p:nvPr/>
        </p:nvGraphicFramePr>
        <p:xfrm>
          <a:off x="6400800" y="3429000"/>
          <a:ext cx="279360" cy="888840"/>
        </p:xfrm>
        <a:graphic>
          <a:graphicData uri="http://schemas.openxmlformats.org/presentationml/2006/ole">
            <p:oleObj r:id="rId3" spid="">
              <p:embed/>
              <p:pic>
                <p:nvPicPr>
                  <p:cNvPr id="75" name="" descr=""/>
                  <p:cNvPicPr/>
                  <p:nvPr/>
                </p:nvPicPr>
                <p:blipFill>
                  <a:blip r:embed="rId4"/>
                  <a:stretch/>
                </p:blipFill>
                <p:spPr>
                  <a:xfrm>
                    <a:off x="6400800" y="3429000"/>
                    <a:ext cx="27936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2</a:t>
            </a:r>
            <a:endParaRPr b="0" lang="en-US" sz="6000" spc="-1" strike="noStrike">
              <a:solidFill>
                <a:srgbClr val="0d469b"/>
              </a:solidFill>
              <a:latin typeface="Arial"/>
            </a:endParaRPr>
          </a:p>
        </p:txBody>
      </p:sp>
      <p:sp>
        <p:nvSpPr>
          <p:cNvPr id="7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affold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the fractions are less than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fractions equival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picture of one fraction. How can you change the picture to get an equivalent fr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3</a:t>
            </a:r>
            <a:endParaRPr b="0" lang="en-US" sz="6000" spc="-1" strike="noStrike">
              <a:solidFill>
                <a:srgbClr val="0d469b"/>
              </a:solidFill>
              <a:latin typeface="Arial"/>
            </a:endParaRPr>
          </a:p>
        </p:txBody>
      </p:sp>
      <p:pic>
        <p:nvPicPr>
          <p:cNvPr id="79" name="Content Placeholder 5" descr="Screen shot 2010-07-14 at 1.34.37 PM.png"/>
          <p:cNvPicPr/>
          <p:nvPr/>
        </p:nvPicPr>
        <p:blipFill>
          <a:blip r:embed="rId1"/>
          <a:srcRect l="0" t="-70398" r="0" b="-70398"/>
          <a:stretch/>
        </p:blipFill>
        <p:spPr>
          <a:xfrm>
            <a:off x="457200" y="19051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3</a:t>
            </a:r>
            <a:endParaRPr b="0" lang="en-US" sz="6000" spc="-1" strike="noStrike">
              <a:solidFill>
                <a:srgbClr val="0d469b"/>
              </a:solidFill>
              <a:latin typeface="Arial"/>
            </a:endParaRPr>
          </a:p>
        </p:txBody>
      </p:sp>
      <p:sp>
        <p:nvSpPr>
          <p:cNvPr id="81"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on ques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you have predicted whether or not the person was more than a year old? Explai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acts did you need to use to help you solve the proble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estimate or calculate? Ho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how far off do you think your estimate is?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3</a:t>
            </a:r>
            <a:endParaRPr b="0" lang="en-US" sz="6000" spc="-1" strike="noStrike">
              <a:solidFill>
                <a:srgbClr val="0d469b"/>
              </a:solidFill>
              <a:latin typeface="Arial"/>
            </a:endParaRPr>
          </a:p>
        </p:txBody>
      </p:sp>
      <p:sp>
        <p:nvSpPr>
          <p:cNvPr id="8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caffold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days are in a ye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stimate, would you change the 1000 or the 365?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it help to figure out how many hours are in a week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it help to figure out how many seconds are in a month 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4</a:t>
            </a:r>
            <a:endParaRPr b="0" lang="en-US" sz="6000" spc="-1" strike="noStrike">
              <a:solidFill>
                <a:srgbClr val="0d469b"/>
              </a:solidFill>
              <a:latin typeface="Arial"/>
            </a:endParaRPr>
          </a:p>
        </p:txBody>
      </p:sp>
      <p:pic>
        <p:nvPicPr>
          <p:cNvPr id="85" name="Content Placeholder 5" descr="Screen shot 2010-07-14 at 1.41.38 PM.png"/>
          <p:cNvPicPr/>
          <p:nvPr/>
        </p:nvPicPr>
        <p:blipFill>
          <a:blip r:embed="rId1"/>
          <a:srcRect l="0" t="-57752" r="0" b="-57752"/>
          <a:stretch/>
        </p:blipFill>
        <p:spPr>
          <a:xfrm>
            <a:off x="457200" y="19051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4</a:t>
            </a:r>
            <a:endParaRPr b="0" lang="en-US" sz="6000" spc="-1" strike="noStrike">
              <a:solidFill>
                <a:srgbClr val="0d469b"/>
              </a:solidFill>
              <a:latin typeface="Arial"/>
            </a:endParaRPr>
          </a:p>
        </p:txBody>
      </p:sp>
      <p:sp>
        <p:nvSpPr>
          <p:cNvPr id="8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on ques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econd number greater or less than the first one? How did you dec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more than one answer? How do you know? How far apart are th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ategy did you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lse could you compare the two numb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4</a:t>
            </a:r>
            <a:endParaRPr b="0" lang="en-US" sz="6000" spc="-1" strike="noStrike">
              <a:solidFill>
                <a:srgbClr val="0d469b"/>
              </a:solidFill>
              <a:latin typeface="Arial"/>
            </a:endParaRPr>
          </a:p>
        </p:txBody>
      </p:sp>
      <p:sp>
        <p:nvSpPr>
          <p:cNvPr id="8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caffold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lse can you think of 80%? 1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that the second number can’t be 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icture could you draw to help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least the second number could be? How do you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5</a:t>
            </a:r>
            <a:endParaRPr b="0" lang="en-US" sz="6000" spc="-1" strike="noStrike">
              <a:solidFill>
                <a:srgbClr val="0d469b"/>
              </a:solidFill>
              <a:latin typeface="Arial"/>
            </a:endParaRPr>
          </a:p>
        </p:txBody>
      </p:sp>
      <p:sp>
        <p:nvSpPr>
          <p:cNvPr id="9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hoic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mL of Brand A juice costs $2.29, but 620 mL of Brand B juice costs $2.69. Which is a better bu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hoic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mL of Brand A juice costs $2.49, but 750 mL of Brand B juice costs $3.29. Which is a better bu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5</a:t>
            </a:r>
            <a:endParaRPr b="0" lang="en-US" sz="6000" spc="-1" strike="noStrike">
              <a:solidFill>
                <a:srgbClr val="0d469b"/>
              </a:solidFill>
              <a:latin typeface="Arial"/>
            </a:endParaRPr>
          </a:p>
        </p:txBody>
      </p:sp>
      <p:sp>
        <p:nvSpPr>
          <p:cNvPr id="93"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on ques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it make sense that the price for Brand B isn’t a whole lot higher than it i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need to calculate exactly or could you estimate to decide which was a better bu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figure out the unit price to decide which was a better buy?  Did you need t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you solve th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
          <p:cNvSpPr txBox="1"/>
          <p:nvPr/>
        </p:nvSpPr>
        <p:spPr>
          <a:xfrm>
            <a:off x="533520" y="21333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in pair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the provided materials to solve the following problem:</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d469b"/>
                </a:solidFill>
                <a:latin typeface="Arial"/>
              </a:rPr>
              <a:t>Student Travellers</a:t>
            </a:r>
            <a:endParaRPr b="0" lang="en-US" sz="66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5</a:t>
            </a:r>
            <a:endParaRPr b="0" lang="en-US" sz="6000" spc="-1" strike="noStrike">
              <a:solidFill>
                <a:srgbClr val="0d469b"/>
              </a:solidFill>
              <a:latin typeface="Arial"/>
            </a:endParaRPr>
          </a:p>
        </p:txBody>
      </p:sp>
      <p:sp>
        <p:nvSpPr>
          <p:cNvPr id="9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caffold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620 (or 750) compare to 500? How is that information use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how much does 100 mL of Brand A cost? How is that information useful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a diagram help you solve th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6</a:t>
            </a:r>
            <a:endParaRPr b="0" lang="en-US" sz="6000" spc="-1" strike="noStrike">
              <a:solidFill>
                <a:srgbClr val="0d469b"/>
              </a:solidFill>
              <a:latin typeface="Arial"/>
            </a:endParaRPr>
          </a:p>
        </p:txBody>
      </p:sp>
      <p:sp>
        <p:nvSpPr>
          <p:cNvPr id="9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hoic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variables are almost proportional. What might the relationship be? How do you know?</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hoice 2:</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variables are almost inversely proportional. What might the relationship be? How do you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6</a:t>
            </a:r>
            <a:endParaRPr b="0" lang="en-US" sz="60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on Ques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relationship did you think about first?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d you use that first relationship? Why no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did you interpret “almos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id you notice about your grap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6</a:t>
            </a:r>
            <a:endParaRPr b="0" lang="en-US" sz="60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caffolding Ques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es “variable” mea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sort of answer do you ne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es proportional mea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x gets bigger, what happens to y?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could a graph help?</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Assessment of Learning</a:t>
            </a:r>
            <a:endParaRPr b="0" lang="en-US" sz="5400" spc="-1" strike="noStrike">
              <a:solidFill>
                <a:srgbClr val="0d469b"/>
              </a:solidFill>
              <a:latin typeface="Arial"/>
            </a:endParaRPr>
          </a:p>
        </p:txBody>
      </p:sp>
      <p:sp>
        <p:nvSpPr>
          <p:cNvPr id="103"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role might parallel tasks play in assessment of learning situ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reating common questions</a:t>
            </a:r>
            <a:endParaRPr b="0" lang="en-US" sz="4800" spc="-1" strike="noStrike">
              <a:solidFill>
                <a:srgbClr val="0d469b"/>
              </a:solidFill>
              <a:latin typeface="Arial"/>
            </a:endParaRPr>
          </a:p>
        </p:txBody>
      </p:sp>
      <p:sp>
        <p:nvSpPr>
          <p:cNvPr id="105"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ose either PJ, JI or IS sets of parallel tasks with which to wor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a small group or with a partner, create at least 3 or 4 common questions and a few scaffolding questions.</a:t>
            </a:r>
            <a:endParaRPr b="0" lang="en-US" sz="3600" spc="-1" strike="noStrike">
              <a:solidFill>
                <a:srgbClr val="000000"/>
              </a:solidFill>
              <a:latin typeface="Arial"/>
            </a:endParaRPr>
          </a:p>
        </p:txBody>
      </p:sp>
      <p:pic>
        <p:nvPicPr>
          <p:cNvPr id="106" name="Picture 3" descr="leadership thing.png"/>
          <p:cNvPicPr/>
          <p:nvPr/>
        </p:nvPicPr>
        <p:blipFill>
          <a:blip r:embed="rId1"/>
          <a:stretch/>
        </p:blipFill>
        <p:spPr>
          <a:xfrm>
            <a:off x="7162920" y="4800600"/>
            <a:ext cx="1536480" cy="121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What were the challenges?</a:t>
            </a:r>
            <a:endParaRPr b="0" lang="en-US" sz="4800" spc="-1" strike="noStrike">
              <a:solidFill>
                <a:srgbClr val="0d469b"/>
              </a:solidFill>
              <a:latin typeface="Arial"/>
            </a:endParaRPr>
          </a:p>
        </p:txBody>
      </p:sp>
      <p:sp>
        <p:nvSpPr>
          <p:cNvPr id="108"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ere your challenges in creating your common ques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d your scaffolding questions do the thinking for the students or just lead them th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t’s consolidate</a:t>
            </a:r>
            <a:endParaRPr b="0" lang="en-US" sz="6000" spc="-1" strike="noStrike">
              <a:solidFill>
                <a:srgbClr val="0d469b"/>
              </a:solidFill>
              <a:latin typeface="Arial"/>
            </a:endParaRPr>
          </a:p>
        </p:txBody>
      </p:sp>
      <p:sp>
        <p:nvSpPr>
          <p:cNvPr id="110"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a partner, tell how you would respond to a colleague who say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t use parallel tasks since you have to stick to the curriculum expect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90 students in a school have gone to at least two other provinces.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f this represents 24% of the students in the school, how many students are in the schoo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tudent Traveller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obstacles might students experience in solving thi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uld those obstacles still exist if the percent were 50 instead of 24?</a:t>
            </a:r>
            <a:endParaRPr b="0" lang="en-US" sz="3600" spc="-1" strike="noStrike">
              <a:solidFill>
                <a:srgbClr val="000000"/>
              </a:solidFill>
              <a:latin typeface="Arial"/>
            </a:endParaRPr>
          </a:p>
        </p:txBody>
      </p:sp>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nticipating problem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allel Tasks</a:t>
            </a:r>
            <a:endParaRPr b="0" lang="en-US" sz="6000" spc="-1" strike="noStrike">
              <a:solidFill>
                <a:srgbClr val="0d469b"/>
              </a:solidFill>
              <a:latin typeface="Arial"/>
            </a:endParaRPr>
          </a:p>
        </p:txBody>
      </p:sp>
      <p:sp>
        <p:nvSpPr>
          <p:cNvPr id="59" name=""/>
          <p:cNvSpPr txBox="1"/>
          <p:nvPr/>
        </p:nvSpPr>
        <p:spPr>
          <a:xfrm>
            <a:off x="457200" y="19047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hey 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e use th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1</a:t>
            </a:r>
            <a:endParaRPr b="0" lang="en-US" sz="6000" spc="-1" strike="noStrike">
              <a:solidFill>
                <a:srgbClr val="0d469b"/>
              </a:solidFill>
              <a:latin typeface="Arial"/>
            </a:endParaRPr>
          </a:p>
        </p:txBody>
      </p:sp>
      <p:pic>
        <p:nvPicPr>
          <p:cNvPr id="61" name="Content Placeholder 3" descr="Screen shot 2010-07-14 at 12.45.04 PM.png"/>
          <p:cNvPicPr/>
          <p:nvPr/>
        </p:nvPicPr>
        <p:blipFill>
          <a:blip r:embed="rId1"/>
          <a:srcRect l="0" t="-27039" r="0" b="-27039"/>
          <a:stretch/>
        </p:blipFill>
        <p:spPr>
          <a:xfrm>
            <a:off x="457200" y="19051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1</a:t>
            </a:r>
            <a:endParaRPr b="0" lang="en-US" sz="6000" spc="-1" strike="noStrike">
              <a:solidFill>
                <a:srgbClr val="0d469b"/>
              </a:solidFill>
              <a:latin typeface="Arial"/>
            </a:endParaRPr>
          </a:p>
        </p:txBody>
      </p:sp>
      <p:sp>
        <p:nvSpPr>
          <p:cNvPr id="6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Questio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your number have been 3?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you decide what numbers to 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you solve the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there have been more answers if we hadn’t limited the number of ma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find those more ans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1</a:t>
            </a:r>
            <a:endParaRPr b="0" lang="en-US" sz="6000" spc="-1" strike="noStrike">
              <a:solidFill>
                <a:srgbClr val="0d469b"/>
              </a:solidFill>
              <a:latin typeface="Arial"/>
            </a:endParaRPr>
          </a:p>
        </p:txBody>
      </p:sp>
      <p:sp>
        <p:nvSpPr>
          <p:cNvPr id="6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affolding Questio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some markers. How would you show that there is 1 [or are 2] left over when you make groups of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there were more than 4 ma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other numbers you could elimin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2</a:t>
            </a:r>
            <a:endParaRPr b="0" lang="en-US" sz="6000" spc="-1" strike="noStrike">
              <a:solidFill>
                <a:srgbClr val="0d469b"/>
              </a:solidFill>
              <a:latin typeface="Arial"/>
            </a:endParaRPr>
          </a:p>
        </p:txBody>
      </p:sp>
      <p:sp>
        <p:nvSpPr>
          <p:cNvPr id="6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1</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fractions are equivalent. If you add the numerators, the result is 22 less than if you add the denominators. Draw pictures of the two frac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picture to show two equivalent fractions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8" name=""/>
          <p:cNvGraphicFramePr/>
          <p:nvPr/>
        </p:nvGraphicFramePr>
        <p:xfrm>
          <a:off x="3124080" y="5638680"/>
          <a:ext cx="279360" cy="889200"/>
        </p:xfrm>
        <a:graphic>
          <a:graphicData uri="http://schemas.openxmlformats.org/presentationml/2006/ole">
            <p:oleObj r:id="rId1" spid="">
              <p:embed/>
              <p:pic>
                <p:nvPicPr>
                  <p:cNvPr id="69" name="" descr=""/>
                  <p:cNvPicPr/>
                  <p:nvPr/>
                </p:nvPicPr>
                <p:blipFill>
                  <a:blip r:embed="rId2"/>
                  <a:stretch/>
                </p:blipFill>
                <p:spPr>
                  <a:xfrm>
                    <a:off x="3124080" y="5638680"/>
                    <a:ext cx="279360" cy="88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12:40:37Z</dcterms:created>
  <dc:creator>PSteele</dc:creator>
  <dc:description/>
  <dc:language>en-US</dc:language>
  <cp:lastModifiedBy>Marian Small</cp:lastModifiedBy>
  <dcterms:modified xsi:type="dcterms:W3CDTF">2010-08-11T13:04:52Z</dcterms:modified>
  <cp:revision>250</cp:revision>
  <dc:subject/>
  <dc:title>Slide 1</dc:title>
</cp:coreProperties>
</file>